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2FC-75EF-43C3-8A29-32250378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7BA-CB1B-49D6-8FE2-23CC66E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84D-4734-491E-B92C-2D745E9D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BC0-93BC-4F04-B848-98C9A613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A9D-7097-4008-A219-014065F9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2B6-44D9-4F05-B8FC-11B69AE7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45A-4644-436B-B939-1D5EC73C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518-92E0-432F-80BC-DDAA7CAD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3DA-A895-4D2A-B84B-A3F29EC3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C43-EC8F-4C96-B191-6533086E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0A3-9144-487B-94F7-086509E6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967-DDBE-477A-B6FD-DCEC977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7E2C-7F80-4658-AF86-25ACCFB20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orespiratory Phys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l/oral ca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glot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eoli/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Phys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alation/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alation/ex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/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/bodily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s of Respiratory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 Flow (max. only)/Spirometry (full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– steroids/anti-inflamm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– asthma,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– exercise, low O2 levels, anxiety/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– sleep, relaxation, depres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2/CO2 levels – blood tests/pulse oxi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/Dec – higher O2 levels in air, hyperventilation, m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/Inc – Low O2 in air, di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s of Circulatory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– exercise, stress, anxiety, stimu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– relaxation, depressants,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7:32:25Z</dcterms:created>
  <dc:creator>Administrator</dc:creator>
  <dc:description/>
  <dc:language>en-US</dc:language>
  <cp:lastModifiedBy>Administrator</cp:lastModifiedBy>
  <dcterms:modified xsi:type="dcterms:W3CDTF">2010-03-16T14:02:37Z</dcterms:modified>
  <cp:revision>5</cp:revision>
  <dc:subject/>
  <dc:title>Circulatory</dc:title>
</cp:coreProperties>
</file>